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961-7D8F-4A08-AE66-A69D964DF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9883-CC7C-443F-A0F0-4D4488A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884-2607-42B9-9E59-E4B13A9E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643-C4CA-4351-A89E-2A861CA8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90AB-FEA1-4C0A-897E-E14296A7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702-0221-4370-92EC-3EF93554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906-96B9-46BC-937C-7C2C96E2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8DD-AC5F-4670-93AC-2E543B98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250-9A98-4DBC-A56A-60CE887C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8996-A1F5-4263-AA09-867A9ACA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98DC-A2BF-4125-9F07-30147B6C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E9F4-E13A-4545-914B-24A7A0DD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644F-63B3-4C1B-9127-D56C7F0EBC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oocus.com/siteimages/Novelties/Warning-Challenges.jpg&amp;imgrefurl=http://www.acraftlife.com/general-crafts/mondays-challenge&amp;usg=__RjjxCx4opkEiwpw55oBftIpa9p4=&amp;h=582&amp;w=450&amp;sz=93&amp;hl=en&amp;start=4&amp;um=1&amp;tbnid=_K6UC-iK2CdZCM:&amp;tbnh=134&amp;tbnw=104&amp;prev=/images%3Fq%3Dchallenge%26hl%3Den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ottodell.com/covers/islandsc.jpg&amp;imgrefurl=http://www.scottodell.com/books/dolphins.html&amp;usg=__JtAHSjod21NQkKLuqHJ3Iej7hIE=&amp;h=451&amp;w=316&amp;sz=44&amp;hl=en&amp;start=4&amp;um=1&amp;tbnid=NlsMP9XWC1zl7M:&amp;tbnh=127&amp;tbnw=89&amp;prev=/images%3Fq%3DIsland%2Bof%2Bthe%2BBlue%2BDolphins%26hl%3Den%26safe%3Dactive%26rls%3Dcom.microsoft:en-us%26sa%3DN%26um%3D1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oudy Stout"/>
              </a:rPr>
              <a:t>What is a Challenge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3505320"/>
            <a:ext cx="2173320" cy="280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ndividually you wil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d to the story by keeping a respons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g to teacher’s questions and each other’s respo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cribe a character by using an analysis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rubric for self-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final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llaboratively the group wil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e a newspaper edition for one of the stories by writing articles about Satchel Paige and that period of American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 comprehension analysis for each sto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00"/>
                </a:solidFill>
                <a:latin typeface="Arial"/>
              </a:rPr>
              <a:t>Just when you think you are headed down a certain path, </a:t>
            </a:r>
            <a:br>
              <a:rPr sz="4000"/>
            </a:br>
            <a:r>
              <a:rPr b="0" lang="en-US" sz="4000" spc="-1" strike="noStrike">
                <a:solidFill>
                  <a:srgbClr val="00b000"/>
                </a:solidFill>
                <a:latin typeface="Arial"/>
              </a:rPr>
              <a:t>what happen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97180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20164800">
            <a:off x="360" y="327636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ddington"/>
              </a:rPr>
              <a:t>You hit a bump in the r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6172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ddington"/>
              </a:rPr>
              <a:t>You encounter bad we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47242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ddington"/>
              </a:rPr>
              <a:t>You come to a dead 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297800">
            <a:off x="227880" y="5105520"/>
            <a:ext cx="45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ddington"/>
              </a:rPr>
              <a:t>You loose your moti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36200">
            <a:off x="3123720" y="39067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Paddington"/>
              </a:rPr>
              <a:t>You meet stubborn, uncooperativ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haracters in literature face challenges or problems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nother charac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a sit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419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3733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emsel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What kind of challenge have you faced in your own life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ink of a story or book you’ve read recently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a challenge that the main character fac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he/she change because of this conflic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d he/she stay the sam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2949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You will be reading three different stories that involve challenges for the main charact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633760" cy="4000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6680" y="609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Frind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Island of the Blue Dolphi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81280" y="2286000"/>
            <a:ext cx="2362320" cy="3371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3716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2209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67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39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atchel Paig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2898720" cy="4066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315200" y="990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43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45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08:23Z</dcterms:created>
  <dc:creator>Valued Gateway Client</dc:creator>
  <dc:description/>
  <dc:language>en-US</dc:language>
  <cp:lastModifiedBy>ECPS</cp:lastModifiedBy>
  <dcterms:modified xsi:type="dcterms:W3CDTF">2009-04-27T17:22:19Z</dcterms:modified>
  <cp:revision>16</cp:revision>
  <dc:subject/>
  <dc:title>What is Change?</dc:title>
</cp:coreProperties>
</file>